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E3E-F940-4889-B579-F3976E22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350-3351-46A6-A5DF-B24E0EC6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783-9D07-435A-BD4E-DAD2216B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E8BC-BEF5-421B-A25D-69646EFE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7CBE-33A2-4D4B-8BFA-8EF334D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AA6-F5E0-480B-95A7-1679A63A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0FE-100F-4513-9450-72AE613A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47A-CA76-43A1-B034-1587E35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82F-0CAD-4C12-B903-4CAD4764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A01-68EC-4024-975A-FAE7684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A61-0629-4808-8DEC-DE891FE9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B1D-3B5F-403A-8A5D-F888B25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1AB-53C6-4772-B8DD-4C3F13A20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obyn 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eek City-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tudy of wisdom and the right way to l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t3.gstatic.com/images?q=tbn:ANd9GcRy38TBndXbW40siPymkpHwMgIM-3OFCnV5NectFzO5tW0VjF2V"/>
          <p:cNvPicPr/>
          <p:nvPr/>
        </p:nvPicPr>
        <p:blipFill>
          <a:blip r:embed="rId1"/>
          <a:stretch/>
        </p:blipFill>
        <p:spPr>
          <a:xfrm>
            <a:off x="228600" y="2590920"/>
            <a:ext cx="89154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 area of land nearly surrounded by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t3.gstatic.com/images?q=tbn:ANd9GcTzhN9ifyjr3ObR8dU87_JKjkgE5xZzGPRP5WVUc7P4Zm0xIk83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war between Athens and Spa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t0.gstatic.com/images?q=tbn:ANd9GcRmTy0V6NYLHEnA9GNdaQvYFb92_xFiWy6AauDlIJTZ0K_wfEXR-w"/>
          <p:cNvPicPr/>
          <p:nvPr/>
        </p:nvPicPr>
        <p:blipFill>
          <a:blip r:embed="rId1"/>
          <a:stretch/>
        </p:blipFill>
        <p:spPr>
          <a:xfrm>
            <a:off x="0" y="3352680"/>
            <a:ext cx="8763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002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kind of Government that is ru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ttp://t2.gstatic.com/images?q=tbn:ANd9GcR7ZAC2QJLVNXbrCS_b-cG1rQCiahFXsGGTLTSbzpHaYGVoFKqW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sheltered place along a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t1.gstatic.com/images?q=tbn:ANd9GcSLIbxl9qeT2HGBXqZoHacenl0lhJanq6KuiZZeXJ_WbwlznZL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3.gstatic.com/images?q=tbn:ANd9GcTwPiDj-6I4Box7h93mpmGuOzmveZCGZRieBg0j6kg4OjsTtCIKOg"/>
          <p:cNvPicPr/>
          <p:nvPr/>
        </p:nvPicPr>
        <p:blipFill>
          <a:blip r:embed="rId1"/>
          <a:stretch/>
        </p:blipFill>
        <p:spPr>
          <a:xfrm>
            <a:off x="0" y="3324240"/>
            <a:ext cx="9144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3.gstatic.com/images?q=tbn:ANd9GcSFGyzwts7g4M4s28Mtm6Ekd6dVjJfHCAwib6FrljcsjwqPomBc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525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law making place where people voted on issues that helped their 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t2.gstatic.com/images?q=tbn:ANd9GcRoyt37ONC2wyaWg5LiHbiQZwDR68h9lVwzrrfmlgLTlIoFs-Cr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person who has certain rights and responsibilities to his or her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t3.gstatic.com/images?q=tbn:ANd9GcQol48pt3NP0FV2hm5fx5RTIa7gQOJvJvDhSSQhppXEFAcgBVt7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group of people who lived apart from Greece but kept economic ties with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SWKAWWUSxCvz8gskWE9zdPlWuCjOB7Ccij8j9kTlJxI9SLMK7Xfw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form of Government where people vote to make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t1.gstatic.com/images?q=tbn:ANd9GcSCuFdSSnVmqoaXUzU4ElIlNAdpyD53BPg6x3c6tboJNvOesBNTXA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1828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y hear evidence and make decisions in a court or la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t1.gstatic.com/images?q=tbn:ANd9GcRdEpQCYKOt3loojXuQrpWe8FLtJm-Ulomi8umVDU4ncRSHt_2rOw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ernment headed by one l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t1.gstatic.com/images?q=tbn:ANd9GcRyHH7yW_d9vjux5YQpo64UgTmSE0L4fDdWB-5iG4ZDFzR6hqkK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2T17:15:11Z</dcterms:modified>
  <cp:revision>93</cp:revision>
  <dc:subject/>
  <dc:title>Ancient Greece</dc:title>
</cp:coreProperties>
</file>